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2392-4950-4646-A710-D0527C94B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64B3-E9E2-40A8-BF7D-70107FA6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4A54-8E2D-4A42-9482-A9E375005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CB2F-47A2-417B-908F-92C82CB9C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B78F-8FA1-44A1-8A17-EC984615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2527-8E91-4E37-B88D-41F830E7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61FA-9B13-4D0E-ADA4-CB5F7E16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8512-B4ED-49D8-9EC2-2DCA313D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670F-BDE8-4B01-B023-4BDBB53E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AE35-DEC2-4DB6-946C-CB1672FF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6933-59CA-4540-9AB3-92D3068D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2755-ED13-4807-891A-CFE0A62F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D76E-DBB2-4770-9C7E-59E78D1C38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ey Point 8 of 9</a:t>
            </a: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 Clarification. </a:t>
            </a:r>
            <a:br>
              <a:rPr sz="28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 Few Words on Bilingual Programm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bilingual-framework.gif"/>
          <p:cNvPicPr/>
          <p:nvPr/>
        </p:nvPicPr>
        <p:blipFill>
          <a:blip r:embed="rId1"/>
          <a:stretch/>
        </p:blipFill>
        <p:spPr>
          <a:xfrm>
            <a:off x="762120" y="1523880"/>
            <a:ext cx="7391160" cy="489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asic Change: Moving Away from the NLL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8600" y="1142640"/>
            <a:ext cx="3581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tive Language Literacy – a locally designed bilingual instructional model in whic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572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iteracy instruction is done in the student’s home language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400" spc="-1" strike="noStrike">
                <a:solidFill>
                  <a:srgbClr val="c00000"/>
                </a:solidFill>
                <a:latin typeface="Calibri"/>
              </a:rPr>
              <a:t>(= 90 to 120 minutes a day in Home Language)</a:t>
            </a:r>
            <a:r>
              <a:rPr b="1" lang="en-US" sz="1600" spc="-1" strike="noStrike">
                <a:solidFill>
                  <a:srgbClr val="c00000"/>
                </a:solidFill>
                <a:latin typeface="Calibri"/>
              </a:rPr>
              <a:t>,</a:t>
            </a:r>
            <a:br>
              <a:rPr sz="1600"/>
            </a:br>
            <a:r>
              <a:rPr b="1" lang="en-US" sz="1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457200" indent="-22860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majority of other school subjects are taught in English </a:t>
            </a:r>
            <a:r>
              <a:rPr b="1" i="1" lang="en-US" sz="1200" spc="-1" strike="noStrike">
                <a:solidFill>
                  <a:srgbClr val="c00000"/>
                </a:solidFill>
                <a:latin typeface="Calibri"/>
              </a:rPr>
              <a:t>(=the balance – math, science,  social studies, specials – in Englis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457200" indent="-228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y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For a lot of reasons … some of which are covered in our brochure, some of which are based on SLA principles, some of which are based on expectation vs. performance consideration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45720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3962520" y="1447920"/>
            <a:ext cx="4709880" cy="4495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bilingual-framework.gif"/>
          <p:cNvPicPr/>
          <p:nvPr/>
        </p:nvPicPr>
        <p:blipFill>
          <a:blip r:embed="rId1"/>
          <a:stretch/>
        </p:blipFill>
        <p:spPr>
          <a:xfrm>
            <a:off x="152280" y="152280"/>
            <a:ext cx="8828280" cy="647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bilingual-framework.gif"/>
          <p:cNvPicPr/>
          <p:nvPr/>
        </p:nvPicPr>
        <p:blipFill>
          <a:blip r:embed="rId1"/>
          <a:stretch/>
        </p:blipFill>
        <p:spPr>
          <a:xfrm>
            <a:off x="304920" y="1676520"/>
            <a:ext cx="4049640" cy="29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" name="Rounded Rectangular Callout 2"/>
          <p:cNvSpPr/>
          <p:nvPr/>
        </p:nvSpPr>
        <p:spPr>
          <a:xfrm>
            <a:off x="4572000" y="152280"/>
            <a:ext cx="3962520" cy="1219320"/>
          </a:xfrm>
          <a:prstGeom prst="wedgeRoundRectCallout">
            <a:avLst>
              <a:gd name="adj1" fmla="val -87189"/>
              <a:gd name="adj2" fmla="val 13745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Heritage Langu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c00000"/>
                </a:solidFill>
                <a:latin typeface="Calibri"/>
              </a:rPr>
              <a:t>Least disruption to current staffing patter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ounded Rectangular Callout 3"/>
          <p:cNvSpPr/>
          <p:nvPr/>
        </p:nvSpPr>
        <p:spPr>
          <a:xfrm>
            <a:off x="4800600" y="1828800"/>
            <a:ext cx="3886200" cy="2057400"/>
          </a:xfrm>
          <a:prstGeom prst="wedgeRoundRectCallout">
            <a:avLst>
              <a:gd name="adj1" fmla="val -93444"/>
              <a:gd name="adj2" fmla="val 621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arly Exit Transitional Dual Langu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Strong Start – Early Success –  High Clear Expectations from Day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If you’re worried that English Learners are falling behind from Day 1 …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ot a huge amount of support in the professional literatu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ounded Rectangular Callout 4"/>
          <p:cNvSpPr/>
          <p:nvPr/>
        </p:nvSpPr>
        <p:spPr>
          <a:xfrm>
            <a:off x="4952880" y="4495680"/>
            <a:ext cx="4038840" cy="1752840"/>
          </a:xfrm>
          <a:prstGeom prst="wedgeRoundRectCallout">
            <a:avLst>
              <a:gd name="adj1" fmla="val -93083"/>
              <a:gd name="adj2" fmla="val -98685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ate Exit Developmental Dual Langu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Full Bilingualism &amp; Bilitera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igh Challenge, High Risks, High Rewa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ounded Rectangular Callout 5"/>
          <p:cNvSpPr/>
          <p:nvPr/>
        </p:nvSpPr>
        <p:spPr>
          <a:xfrm>
            <a:off x="457200" y="4952880"/>
            <a:ext cx="4038480" cy="1752840"/>
          </a:xfrm>
          <a:prstGeom prst="wedgeRoundRectCallout">
            <a:avLst>
              <a:gd name="adj1" fmla="val -31180"/>
              <a:gd name="adj2" fmla="val -9091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wo-Way Dual Langu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c00000"/>
                </a:solidFill>
                <a:latin typeface="Calibri"/>
              </a:rPr>
              <a:t>High Presti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ultilingual Department won’t support adding TWDL sites until we’re seeing really strong success in the three schools where the model is in plac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639280" cy="601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ssessment &amp; Bilingual Ed’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ow &amp; Later Contrac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3514680" cy="246528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4114800" y="1676520"/>
            <a:ext cx="4724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Now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… we’ll provide strong learning in and through the Home Languag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Later … students will catch up in English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 the 2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Century, you can’t run a BILINGUAL ED program without providing evidence for the NOW par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at means strong assessments in the language of instruction to prove that grade-level learning is being achiev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f you’re not committed to making this happen, you simply can not do a bilingual progra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ill the Multilingual Department help you with this?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Mayb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… but that doesn’t change your obligation to assess 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19:28:40Z</dcterms:created>
  <dc:creator>John J. Wolfe</dc:creator>
  <dc:description/>
  <dc:language>en-US</dc:language>
  <cp:lastModifiedBy>John J. Wolfe</cp:lastModifiedBy>
  <dcterms:modified xsi:type="dcterms:W3CDTF">2012-01-25T19:29:51Z</dcterms:modified>
  <cp:revision>1</cp:revision>
  <dc:subject/>
  <dc:title>Key Point 8 of 9 Clarification.  A Few Words on Bilingual Programming</dc:title>
</cp:coreProperties>
</file>